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9.jpeg" ContentType="image/jpeg"/>
  <Override PartName="/ppt/media/image11.png" ContentType="image/png"/>
  <Override PartName="/ppt/media/image40.png" ContentType="image/png"/>
  <Override PartName="/ppt/media/image38.png" ContentType="image/png"/>
  <Override PartName="/ppt/media/image8.png" ContentType="image/png"/>
  <Override PartName="/ppt/media/image14.jpeg" ContentType="image/jpeg"/>
  <Override PartName="/ppt/media/image13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46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79A38-4EFB-4C2C-B3F0-AE61D7BE99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E7A93-36CB-4F98-BFBE-1B0D5B1CE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0107EBE-B928-42EB-9A07-C1BB3252A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004FA78-4075-4CB7-9C28-39B575182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6C60FC5-5BF4-4643-A11A-A32995F45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AABF11D-A9FC-48AE-948B-165E0A95B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70E89EB-95DA-43D7-9B42-24BD0A2AD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628563E-0005-479A-B6AE-8A3AB3CA7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B6698C2-438C-4FF3-9465-FB3412995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301810C-799C-47E4-9D49-2796CECDF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CF9C793-8C74-4857-82F7-15D9C454A4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0C4C9C-087C-4849-857E-E98F005A4A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E1612-42F4-4668-B032-1AF259214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80C8DE-97B5-4468-81F7-7DAACDF60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CA4AEE-8F8B-4A08-8523-8E5BE022F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297CC8-E732-4078-94B6-61B7986DD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7E771A-D936-4743-B392-55508AADB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E63552-AE34-4651-B2F5-3A3E0E22A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2C779F-DE78-43E3-8FF0-E48E24881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C04E5C-FF4C-46C4-9CDF-BD4EB0522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AA3EB6-14C7-45C9-8223-1BF414AF4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90D5BD-4E26-4291-B084-10EA0F254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712A90-6C8C-44F0-A673-01B2876B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745B3-0306-4C8A-BAD7-FF991A96DBB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50C921-E9A7-4D75-A65B-944F70BBBA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4F1B3D7-680B-4CAF-B951-0EC0C8B0429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C6CE7B8-98FA-4CB1-B090-8C2662432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C890B63-CDDC-4798-9F35-441D8D667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BC0E51A-41D5-4F52-8C0F-855E7E53A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5C4C897-7738-4363-B0DB-9928560A2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FE9487-4944-4C2F-A463-7E2C40820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9EA8D5-FEA7-4010-94A5-F098C7B3F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29A50D-49D1-4B45-B5DE-6FE6B8C89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E9E906-CD55-4CF4-8D25-0B1D78DAA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396B0D-8159-4C10-A296-3347817CD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5719B7-FF65-4A41-AE13-23A2892F9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EDCB66D-0F0C-4DF0-9FED-BD4E68A5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D6F995D-7E9D-4A45-9BC0-DFA1F855874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57E6DF-BD97-47DC-AC3C-316A8737C32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66C818-3D31-46E6-843D-61417966D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7BC55E-ADE7-4F98-8DCC-08C1A12D8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4CDC63-E5A7-45D0-8FDE-4B26D9D08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5476A1-DC2E-46FB-B320-579DEFD43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645D3F-F56B-45A3-91A0-D4DE77E7A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676267-5AD4-4437-9FE4-02A18EF83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3024C1-BDA5-4200-8EBA-81C7F44DD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1813A2-98FD-4B89-93C9-95E010454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F14727-DEAE-49D5-A111-34E70DB73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AFA41A-8686-4264-BE4B-BAE2CC07A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858A6C-E694-4CE8-8236-F8716738A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D87FDB-4FA5-4759-9963-0716DC6468B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CBDBA9-0C17-45F4-9AAD-1F942AB871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8B2D90-7031-40EC-B261-BFF9F8EAB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739953-E230-46F8-AAE4-3ACDE4FE1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83EF20-64C5-4CA5-8AA2-949EC0EF6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347E56-C4B3-423D-9AF3-C29AFA62F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72C868-988D-4F3A-B723-6E5686252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30567C-8F9B-482B-B6AF-EB93B01FC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67B6C8-273E-4615-AD82-0CB07C21A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90E341-6D1B-45E3-984D-B7B563250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3A375D-20EA-4355-8873-188D54960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64655C-D347-4523-A2C0-17967022F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DD63D5-CA47-4421-9D14-3E222E10B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9BA5E1-8217-4981-8CEA-ACBD6A8494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5277F6-1175-4A25-9B2B-03BE72CD6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D0F0EF-CD63-4993-AA6D-1F31848F5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1ADAF3-6690-4907-8C4D-FB317A889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F3C1AE-9D43-4E8C-83EE-0C43A0C04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666581-5E26-4BFA-A9F6-095F26A6F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51AFC1-64F7-425A-8446-2525DD102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DE2E7A-6D79-4B92-B47C-CAB32EA4E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4415DF-86AF-4FAC-98D2-FFEE3D358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4EA32E-F9B9-409F-A6B6-D2E912B3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6459A8-09A0-42A9-A423-49652A9D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37D4A6-53DC-412D-8557-90F9299B0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D5FAC1-33B0-4395-BBE6-87855DF03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26707B-ADB5-459F-82DE-4879A9A54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49A1D2-5E3A-4255-9E2A-4261DAF97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60E65C-1663-4CB6-85AA-55BB5F698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001567-22FD-4CD9-9864-BB777F432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C977F5-1D9B-4614-A8D6-B0BF0C954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51B42E-4F52-4A2A-98F3-F65E94B0B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7916FD-0C78-42DA-B56A-867CD2888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8E924D-3F1B-4F7D-93AB-893F84747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76D80C-A980-4E13-AE7A-48312EB4E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FF6FC8-B5C6-4904-8FA4-F0756EA90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098792-7074-4F2A-A92F-863C2920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045A56-22C3-4E60-BB0D-08DAA4703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A71C31-8535-44B6-8F9E-2BA837221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104ABF-2FFD-40EE-987F-27288BC97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6D5571-A24F-485F-8FC3-1D71C8486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A26CE3-8D2F-49DF-9205-9A7D2CE54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7932AA-844F-4C17-9A18-882E2955E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6BC722-4163-493D-83F6-C99410013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BC3D00-7B63-4977-8F19-4B90C49D3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6CD659-9843-4190-9874-80B6448BB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716661-AC01-408B-9AF0-BA2E6ABAF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3FF68F-AE74-4AD5-A2C6-A9EBF5F4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6A6B1F-AC2B-413B-93D2-A1F4ECA5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03C0E1-E074-4B12-8669-28B38347B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C4E4DD-B7CA-451A-B6D8-5B27AE3B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B44F63-6FB0-487B-AB67-7B76F8D0F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F73987-BAE5-4D59-B20C-11991D84E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49F1EB-4E21-4CFB-913E-175437DDD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CEA053-E989-4FBF-9D4C-1D011A19F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10C99A-1786-4D3F-8691-88BB6E80C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8257B0-4CA6-4785-8130-76BCA45B4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708B53-3BC6-41A1-8426-A68C6F931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AD59C4-8CA1-46F9-BCCB-E398BFA78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6E6FF2-3BAA-4D44-A3AC-6817CA12A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E60DE0-36DE-47EE-B993-2A6BAC7BE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5D570-5CF6-4CA3-999C-FE763302F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55BF26-FC54-47E4-97E3-BA1E7095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F85C94-3B5A-4026-B425-B84BCA370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E462A5-6039-406F-B072-960EF2684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EDE1E5-AEB9-46A5-ACC3-C331551FB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BF3405-DFFC-4526-B769-2E9339570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208D0D-9F39-418E-B3CB-A9569317A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30A1A9-5683-41A2-A1C2-203E6A8E9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A308DE-2E79-49B4-9245-39F46CCB3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5D44FB-6106-4E3A-A1BF-8D735E0C1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FF29BE-CA8C-452E-B106-B05B84663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418AFA-7A0D-473E-A413-7DB768784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554CA9-3FAA-4504-9FF8-1CE0B0E2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82277B-F8C2-4F43-A96A-3E847CED6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F69B08-70B6-4182-82AC-6244F262A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8BF1FA-7E15-4607-B803-7BA31340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72F934-546B-46C0-8F0C-657C87E5C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A2D079-6441-48BC-98BB-C45E3BE5E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2D01FF-0356-4966-B500-B5A9007ED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AFE00F-FDC2-42D3-9E7F-43BA3AA7E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A63F1A-7D2C-453A-A226-3DA217BED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FA02CF-D3B7-4E76-A2D9-0694ECE29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DA3063-4E93-4DE3-87D3-1CBC4BD9F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2A4DA5-D4F5-4E17-8C5B-604D62B97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91E78A-9E42-40F0-94FB-5ED7A4802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357E17-1D27-44DF-A90D-3C2C14EE2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2C8EE9-7274-4877-9D03-0A5A02AF2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A73203-0D64-45E8-9B91-E32D49D5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A7155A-5391-465E-A211-BDE442A7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43F792-D8B4-464A-AB6A-F0C77F97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89FA57-E7D0-4439-98E7-90DFCC1F0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683460-2352-4226-94AD-0817D043A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602CE2-9EA0-4FEA-B73F-8997B1F8D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5EDB9E-A7CD-42FA-BEDE-BE4EDB13B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1DE7A0-ABFF-4A7B-BD54-C6433089F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C5CBC1-0334-463E-994E-B97E5C641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DE9460-AA06-4D0F-84DA-05CEF06E5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9BB933-EA32-4002-AE0D-ECEBCC022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98EB3F-9DC5-4DFB-A473-5A53E78BE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8E202C-56B7-43B9-847A-B412FFF2A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8BAA4E-0DFF-4730-8642-871CBB4FD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C93A22-3749-4A59-A8DA-3904141C6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E99552-4012-4C23-976B-AD3240634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0C44F7-0516-4BDD-B094-692E7E123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FE3133-A8CD-41E6-A24E-A830403B2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E87BB9-9849-4EB5-B6AE-7F0FE1739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C70B1F-8504-4ABD-84B3-85FDC6C4A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744AE4-E090-4B0B-A866-44E30251A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787890-60BA-46A3-BC3F-7A9846BA3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6D75E7-E518-470B-940E-D7148B7E0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868723-1C82-4E9D-A402-28795E5A3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6DD35C-4D2A-45E9-9CCC-F88E11720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8905AF-283F-4B98-BB79-345BAA9A8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2AE717-56B3-438D-AAE0-D1319890E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4F3E14-2464-4DB3-ABB3-9C1539C8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D3D863-813C-47C3-9C76-A52315CA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5B7000-13A2-499E-A583-5B12748F19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915888-9CE4-45B6-AF14-179B05AA6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AA3FF7-1842-4631-9F09-019EC2A25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F36D7A-B308-4383-BF73-028C44FAE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9F05AE-5090-4D18-AF1D-270861599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61380A-514E-4C18-AB87-7CF9FE298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8C38FD-574E-40A3-8A4E-834B7BA24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60B23C-2947-4D98-8C36-CBBE84E60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FC6847-F177-4D9F-96DF-C9A170AF9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A342AD-BE98-4394-97CB-C2030E878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6A6133-81D3-4FAB-A911-FD57D6D17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C903A7-9BAE-4096-A7A4-9F114B90F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A8E81D-B342-4A78-8A2E-4067649FA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4B3FC1-0A66-48E9-BE73-D21558AC5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D82230-BDC9-4574-82C5-7B6C85632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9AF93C-09AE-494D-846F-926AE45E9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3F0A11-CCAE-4150-B5CF-CEF66FA80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AD5024-DC51-4CC5-A7C8-E2D9C5815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9FDA8C-7117-4580-BB05-CD68AE6EA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161635-F0CE-4040-8B1B-D8344336B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8E61BE-C237-472D-8707-8369A2F43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4F0BBE-7122-442E-8D8D-BE175BE49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68F743-4AF7-425E-96FC-04F6B43C5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B826B5-CBA4-42E9-AC5F-EC10BC32F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7D9DBE-0DB4-4885-8266-45A477BB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06C3F2-83B7-4F88-A990-58F31A337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26E173-64E8-4E5F-A0A4-0C4CD8C2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2F58E8-F5C0-4607-A7B5-30A34C59C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AB61B0-9A27-4012-8395-9C87A4FEC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701FEA-5D6F-49A9-9729-356A722BF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4067AE-FE0B-4EAB-8438-B88364C54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AF359E-187B-4C17-AE37-376B1B0DF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C5D714-4CA8-4EA7-B1AE-F821BCD1D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633F2E-68AC-43BB-A309-A60470AA5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B00333-AEE7-4A13-A441-39659A569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932D86-44FD-453E-B92F-DB1728EE9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75DD5D-A0D6-46CE-BBC3-432C6C767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AA4A05-6223-46B1-8C2B-F3428DBF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54952D-FEB3-4359-80B9-9263DA05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AD5097-2343-4751-A4FE-B8F3FA48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B0E121-E1A5-44BA-BD70-D4821D74D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DBFEFC-D081-4C62-A325-03CDE71DD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A38891-A89C-4540-889B-F587742F4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7603CD-851F-420D-8130-C7D26CC8E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131F6-F35E-418D-9BA3-E96D03D3F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90ED88-B961-4935-AA85-C28BFA0F1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0BA4B8-0461-4653-8F1D-55B871858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C099FA-4393-480F-81C5-B1C0F4579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DFEB8C-E2C8-4A20-ACA8-697A238E9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92BA0A-17C4-4A5C-B820-C4B2AB8B8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43CB3D-BCF5-4399-81B4-CCFEE3A4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AE8CE1-8506-4289-B09A-2F771F93E3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0F279-12F0-4567-97AA-7234F11F898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BA1EA-6178-41AB-941E-F6C62FEE1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6D88A-DA17-449F-B711-F107DB9E9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FCF0B-350A-45D6-8E29-0073F6D77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E0F15-F2F1-4A2E-A3F8-173C4B35E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9FF43-8622-43DE-B752-D5D0E6DC6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90C27-A388-41E6-BF73-8B9D8496D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5AF36-F7AE-418D-9D1B-758D8F5C7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59868-159B-442D-ACDB-EDCA5027B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67947-48E6-45D0-88D9-B46B6A89F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55882-34C9-44E6-957E-3F57F90FA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0DAE1-2A92-4CC4-86BE-8532CFB0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C2A46-F633-4012-8608-2D853D1059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4309B4-CFA5-4AA5-BE21-0E2A525CBE1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21E9B-9054-4F0D-86B6-46F3B0E23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404F2C-9D9B-43F9-9F3D-88E7850D9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CC0C83-5B60-487D-8855-EB865A79D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E60398-5BE6-4271-9828-77C7FA6F5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45C695-EE63-4D9A-9C98-684218ABB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AEA340-5677-4CA1-998A-A7F4F1336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625B78-8136-46C3-A522-EF242DD9E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01BDA7-5110-43EE-A916-C3FD00B8F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19CAC1-ED04-4FE8-A0C8-948E51E80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C0A938-5BDB-41C0-8D9C-2F1E1BED0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14FE16-26D2-4B8E-8BF0-E43E6D168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EC248-B8D9-4F9F-B511-FFF6D8D57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755B05-2780-4F84-90CC-A3B73306E1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DFEE3B8-BB5F-417C-9C8F-D1EDEC6226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5C04F0F-077C-49C9-AE32-D7FF278BC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84C5F44-C5AF-4FF6-B43E-19310CF06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1ABE9DA-F2A8-4148-9962-B6D75B89B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38029A2-CCC4-45D6-9171-1A4355BD2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7C7EB78-2838-4327-98A4-3C67DE8CB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414361A-AB1F-4295-9D48-FD5EFB7BA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AF377BD-272D-4782-A366-E3652532A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B6DF60E-0EF6-47BD-A6E4-0180A5F12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01FF0-B90E-4F39-81EF-DE7BB9E77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7C64E99-2412-4751-B076-DF17E57B4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47E14E1-40EB-47C3-BCBD-F7E5ECF94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0A5C63F-D317-4B52-8542-4F134172FE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793CE-9120-432D-934C-3F62E35B806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AFA69D-4EB2-40B9-B608-329A1C155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28DC5-C019-4CEE-8296-D29EA25CE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52A5DE-C57B-4169-BBFD-6509DF84E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A18188-5386-4566-874C-7C474F208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C9E456-500B-409B-9AFB-BFA4CD0CE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6B4636-4810-4D28-BF33-3BD9BA12C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C9F7C-41E9-4C47-965B-EB1D2860D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24F25-C875-4271-8B21-A450B2A84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271241-3E97-4281-A84F-491C4A4E3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301ED-6478-461D-9C10-93E9CD62C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4D410-5D4B-475D-80CE-A24368CC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70B0A-FE0F-458D-BEE7-ED3DA21E27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3B97B9-4D1F-47EE-930F-41F63DFDFF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9524CB-DE81-4732-9B44-6B6C619C9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19843C-F92B-4A21-BF82-AD129DE88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13FF3B-6432-45A3-A04C-0DD80D0C4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F6D12E-7C5B-4208-B4EB-C30ACE08F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310B7-30B8-46D0-883C-B600DC8A3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375438-1E4A-4165-A627-1CBE37C43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9F38EF-FB6F-4D39-8B21-AC384B4F4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8B139F-6E40-4849-BEB4-7D3466F11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A1FD81-4504-45E3-ABCF-954ED4B81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40A3C7-3B50-47D9-989B-3FDE7A1E3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8BEB2A-5D41-4F6D-8D96-8CFE0091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55A95D-398F-4FF0-A327-7A1EF4343D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597E299-1EA9-4365-BF35-FEA0A0A1F0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5BF1BE8-E650-44FE-BD53-18CB415F4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54281AE-EFAA-4F1A-9EF6-273F8621C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48D84-9BBB-424C-A4A2-931E01E62EC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F940E-97B9-482D-BC06-43BA1BF0EA8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B5AEC-B04C-49B5-8DD4-7FFE06496B6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AD08D-F2CA-44AA-B17A-F45EE186782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4124E-12EE-4F04-8E47-CB74381EA23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0724C-B74E-4EBB-B096-EBF13D202F8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F84B3-0EBE-47A5-9605-479BFCE23A5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78526-B72C-49FE-B524-023DFD28CA7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D0149-8CA1-47D2-A344-73BB674772F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874CE-1B75-4668-A369-76F6E9862AD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A7A04-E4E2-426C-AF2E-1207DD32AC2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C89BC-5B75-4161-B6C8-3ACFE925724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EFB80-0ABC-408E-ABB8-492E1DF96CA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E0EA7-FBB5-4A30-BD35-595D4BEF443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6ADBA-D57F-4140-816E-6517C9FAC44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A4AA5-D14B-44CB-9F12-3756776758D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D909E-A3FD-414C-9AF0-3C389E4431C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E9525-DE7D-48E8-BAE8-3E7A862868D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B1DDA-491B-4637-9FE4-33D557A1905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FDDD5-1186-47CE-86E6-31EB114F564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6D5FE-1D4E-4C48-B4D2-2A7D08B1B81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8B84B-4B3A-4E85-B425-BA9AA19BC00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77C3A-1567-4A62-90DD-6C63894EDE4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BD42A-A4EF-4F22-B0C8-465FB6EA1A6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jpeg"/><Relationship Id="rId1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4.jpe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4.jpe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jpeg"/><Relationship Id="rId9" Type="http://schemas.openxmlformats.org/officeDocument/2006/relationships/image" Target="../media/image32.jpeg"/><Relationship Id="rId10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二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2208240" y="2868480"/>
            <a:ext cx="558720" cy="46368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281160" y="2798640"/>
            <a:ext cx="84438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3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en-US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 认 识 时 间（</a:t>
            </a:r>
            <a:r>
              <a:rPr b="0" lang="en-US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306160" y="2400480"/>
            <a:ext cx="6490080" cy="56880"/>
            <a:chOff x="2306160" y="2400480"/>
            <a:chExt cx="6490080" cy="56880"/>
          </a:xfrm>
        </p:grpSpPr>
        <p:sp>
          <p:nvSpPr>
            <p:cNvPr id="990" name="Line 10"/>
            <p:cNvSpPr/>
            <p:nvPr/>
          </p:nvSpPr>
          <p:spPr>
            <a:xfrm flipV="1">
              <a:off x="2306520" y="2400480"/>
              <a:ext cx="6489720" cy="5688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 rot="10800000">
              <a:off x="2306160" y="2400120"/>
              <a:ext cx="6489720" cy="5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1527120" y="1744560"/>
            <a:ext cx="910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7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认 识 时 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组合 2"/>
          <p:cNvGrpSpPr/>
          <p:nvPr/>
        </p:nvGrpSpPr>
        <p:grpSpPr>
          <a:xfrm>
            <a:off x="-50760" y="87480"/>
            <a:ext cx="5527800" cy="527040"/>
            <a:chOff x="-50760" y="87480"/>
            <a:chExt cx="5527800" cy="527040"/>
          </a:xfrm>
        </p:grpSpPr>
        <p:pic>
          <p:nvPicPr>
            <p:cNvPr id="999" name="圆角矩形 30" descr=""/>
            <p:cNvPicPr/>
            <p:nvPr/>
          </p:nvPicPr>
          <p:blipFill>
            <a:blip r:embed="rId1"/>
            <a:stretch/>
          </p:blipFill>
          <p:spPr>
            <a:xfrm>
              <a:off x="226080" y="87480"/>
              <a:ext cx="525096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0" name="组合 4"/>
            <p:cNvGrpSpPr/>
            <p:nvPr/>
          </p:nvGrpSpPr>
          <p:grpSpPr>
            <a:xfrm>
              <a:off x="-50760" y="182520"/>
              <a:ext cx="739800" cy="274320"/>
              <a:chOff x="-50760" y="182520"/>
              <a:chExt cx="739800" cy="274320"/>
            </a:xfrm>
          </p:grpSpPr>
          <p:sp>
            <p:nvSpPr>
              <p:cNvPr id="1001" name="椭圆 35"/>
              <p:cNvSpPr/>
              <p:nvPr/>
            </p:nvSpPr>
            <p:spPr>
              <a:xfrm rot="16200000">
                <a:off x="235080" y="334080"/>
                <a:ext cx="106920" cy="138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2" name="椭圆 36" descr=""/>
              <p:cNvPicPr/>
              <p:nvPr/>
            </p:nvPicPr>
            <p:blipFill>
              <a:blip r:embed="rId2"/>
              <a:stretch/>
            </p:blipFill>
            <p:spPr>
              <a:xfrm>
                <a:off x="445320" y="263520"/>
                <a:ext cx="243720" cy="7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3" name="椭圆 37"/>
              <p:cNvSpPr/>
              <p:nvPr/>
            </p:nvSpPr>
            <p:spPr>
              <a:xfrm rot="16200000">
                <a:off x="235080" y="196560"/>
                <a:ext cx="106920" cy="138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4" name="椭圆 40" descr=""/>
              <p:cNvPicPr/>
              <p:nvPr/>
            </p:nvPicPr>
            <p:blipFill>
              <a:blip r:embed="rId3"/>
              <a:stretch/>
            </p:blipFill>
            <p:spPr>
              <a:xfrm>
                <a:off x="445320" y="191520"/>
                <a:ext cx="243720" cy="7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5" name="圆角矩形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-50760" y="273960"/>
                <a:ext cx="661320" cy="6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圆角矩形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-50760" y="255960"/>
                <a:ext cx="661320" cy="6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45" descr=""/>
              <p:cNvPicPr/>
              <p:nvPr/>
            </p:nvPicPr>
            <p:blipFill>
              <a:blip r:embed="rId6"/>
              <a:stretch/>
            </p:blipFill>
            <p:spPr>
              <a:xfrm>
                <a:off x="-50760" y="200160"/>
                <a:ext cx="661320" cy="6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48" descr=""/>
              <p:cNvPicPr/>
              <p:nvPr/>
            </p:nvPicPr>
            <p:blipFill>
              <a:blip r:embed="rId7"/>
              <a:stretch/>
            </p:blipFill>
            <p:spPr>
              <a:xfrm>
                <a:off x="-50760" y="182520"/>
                <a:ext cx="661320" cy="63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009" name="Picture 4" descr="D:\我的文档-桌面-收藏夹\桌面\3320946_180728004371_2.jpg"/>
          <p:cNvPicPr/>
          <p:nvPr/>
        </p:nvPicPr>
        <p:blipFill>
          <a:blip r:embed="rId8"/>
          <a:stretch/>
        </p:blipFill>
        <p:spPr>
          <a:xfrm>
            <a:off x="1571760" y="1355760"/>
            <a:ext cx="3917880" cy="307188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0" descr="90-1"/>
          <p:cNvPicPr/>
          <p:nvPr/>
        </p:nvPicPr>
        <p:blipFill>
          <a:blip r:embed="rId9"/>
          <a:srcRect l="79776" t="6457" r="-1353" b="44024"/>
          <a:stretch/>
        </p:blipFill>
        <p:spPr>
          <a:xfrm>
            <a:off x="6418440" y="1141560"/>
            <a:ext cx="2000160" cy="2000160"/>
          </a:xfrm>
          <a:prstGeom prst="rect">
            <a:avLst/>
          </a:prstGeom>
          <a:ln w="0">
            <a:noFill/>
          </a:ln>
        </p:spPr>
      </p:pic>
      <p:sp>
        <p:nvSpPr>
          <p:cNvPr id="1011" name="TextBox 4"/>
          <p:cNvSpPr/>
          <p:nvPr/>
        </p:nvSpPr>
        <p:spPr>
          <a:xfrm>
            <a:off x="709560" y="90360"/>
            <a:ext cx="640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Calibri"/>
                <a:ea typeface="宋体"/>
              </a:rPr>
              <a:t>一、创设情境，发现问题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八边形 7"/>
          <p:cNvSpPr/>
          <p:nvPr/>
        </p:nvSpPr>
        <p:spPr>
          <a:xfrm>
            <a:off x="601560" y="858960"/>
            <a:ext cx="522360" cy="51732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3" name="组合 2"/>
          <p:cNvGrpSpPr/>
          <p:nvPr/>
        </p:nvGrpSpPr>
        <p:grpSpPr>
          <a:xfrm>
            <a:off x="-50760" y="87480"/>
            <a:ext cx="5527800" cy="527040"/>
            <a:chOff x="-50760" y="87480"/>
            <a:chExt cx="5527800" cy="527040"/>
          </a:xfrm>
        </p:grpSpPr>
        <p:pic>
          <p:nvPicPr>
            <p:cNvPr id="1014" name="圆角矩形 30" descr=""/>
            <p:cNvPicPr/>
            <p:nvPr/>
          </p:nvPicPr>
          <p:blipFill>
            <a:blip r:embed="rId1"/>
            <a:stretch/>
          </p:blipFill>
          <p:spPr>
            <a:xfrm>
              <a:off x="226080" y="87480"/>
              <a:ext cx="525096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15" name="组合 4"/>
            <p:cNvGrpSpPr/>
            <p:nvPr/>
          </p:nvGrpSpPr>
          <p:grpSpPr>
            <a:xfrm>
              <a:off x="-50760" y="182520"/>
              <a:ext cx="739800" cy="274320"/>
              <a:chOff x="-50760" y="182520"/>
              <a:chExt cx="739800" cy="274320"/>
            </a:xfrm>
          </p:grpSpPr>
          <p:sp>
            <p:nvSpPr>
              <p:cNvPr id="1016" name="椭圆 35"/>
              <p:cNvSpPr/>
              <p:nvPr/>
            </p:nvSpPr>
            <p:spPr>
              <a:xfrm rot="16200000">
                <a:off x="235080" y="334080"/>
                <a:ext cx="106920" cy="138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17" name="椭圆 36" descr=""/>
              <p:cNvPicPr/>
              <p:nvPr/>
            </p:nvPicPr>
            <p:blipFill>
              <a:blip r:embed="rId2"/>
              <a:stretch/>
            </p:blipFill>
            <p:spPr>
              <a:xfrm>
                <a:off x="445320" y="263520"/>
                <a:ext cx="243720" cy="7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椭圆 37"/>
              <p:cNvSpPr/>
              <p:nvPr/>
            </p:nvSpPr>
            <p:spPr>
              <a:xfrm rot="16200000">
                <a:off x="235080" y="196560"/>
                <a:ext cx="106920" cy="138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19" name="椭圆 40" descr=""/>
              <p:cNvPicPr/>
              <p:nvPr/>
            </p:nvPicPr>
            <p:blipFill>
              <a:blip r:embed="rId3"/>
              <a:stretch/>
            </p:blipFill>
            <p:spPr>
              <a:xfrm>
                <a:off x="445320" y="191520"/>
                <a:ext cx="243720" cy="7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0" name="圆角矩形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-50760" y="273960"/>
                <a:ext cx="661320" cy="6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1" name="圆角矩形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-50760" y="255960"/>
                <a:ext cx="661320" cy="6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2" name="圆角矩形 45" descr=""/>
              <p:cNvPicPr/>
              <p:nvPr/>
            </p:nvPicPr>
            <p:blipFill>
              <a:blip r:embed="rId6"/>
              <a:stretch/>
            </p:blipFill>
            <p:spPr>
              <a:xfrm>
                <a:off x="-50760" y="200160"/>
                <a:ext cx="661320" cy="6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3" name="圆角矩形 48" descr=""/>
              <p:cNvPicPr/>
              <p:nvPr/>
            </p:nvPicPr>
            <p:blipFill>
              <a:blip r:embed="rId7"/>
              <a:stretch/>
            </p:blipFill>
            <p:spPr>
              <a:xfrm>
                <a:off x="-50760" y="182520"/>
                <a:ext cx="661320" cy="63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24" name="矩形 1"/>
          <p:cNvSpPr/>
          <p:nvPr/>
        </p:nvSpPr>
        <p:spPr>
          <a:xfrm>
            <a:off x="500040" y="642960"/>
            <a:ext cx="278604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数一数，填一填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5" name="Picture 17" descr="7"/>
          <p:cNvPicPr/>
          <p:nvPr/>
        </p:nvPicPr>
        <p:blipFill>
          <a:blip r:embed="rId8"/>
          <a:stretch/>
        </p:blipFill>
        <p:spPr>
          <a:xfrm>
            <a:off x="357120" y="1571760"/>
            <a:ext cx="2502000" cy="217620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8" descr="未标题-6"/>
          <p:cNvPicPr/>
          <p:nvPr/>
        </p:nvPicPr>
        <p:blipFill>
          <a:blip r:embed="rId9"/>
          <a:stretch/>
        </p:blipFill>
        <p:spPr>
          <a:xfrm>
            <a:off x="3286080" y="2814480"/>
            <a:ext cx="2502000" cy="217512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9" descr="未标题-7"/>
          <p:cNvPicPr/>
          <p:nvPr/>
        </p:nvPicPr>
        <p:blipFill>
          <a:blip r:embed="rId10"/>
          <a:srcRect l="5535" t="0" r="12790" b="4283"/>
          <a:stretch/>
        </p:blipFill>
        <p:spPr>
          <a:xfrm>
            <a:off x="3454560" y="785880"/>
            <a:ext cx="4524120" cy="4124160"/>
          </a:xfrm>
          <a:prstGeom prst="rect">
            <a:avLst/>
          </a:prstGeom>
          <a:ln w="0">
            <a:noFill/>
          </a:ln>
        </p:spPr>
      </p:pic>
      <p:grpSp>
        <p:nvGrpSpPr>
          <p:cNvPr id="1028" name="组合 10"/>
          <p:cNvGrpSpPr/>
          <p:nvPr/>
        </p:nvGrpSpPr>
        <p:grpSpPr>
          <a:xfrm>
            <a:off x="1989000" y="5187960"/>
            <a:ext cx="4083120" cy="882720"/>
            <a:chOff x="1989000" y="5187960"/>
            <a:chExt cx="4083120" cy="882720"/>
          </a:xfrm>
        </p:grpSpPr>
        <p:sp>
          <p:nvSpPr>
            <p:cNvPr id="1029" name="AutoShape 27"/>
            <p:cNvSpPr/>
            <p:nvPr/>
          </p:nvSpPr>
          <p:spPr>
            <a:xfrm>
              <a:off x="2982600" y="5187960"/>
              <a:ext cx="3089520" cy="739800"/>
            </a:xfrm>
            <a:prstGeom prst="wedgeRoundRectCallout">
              <a:avLst>
                <a:gd name="adj1" fmla="val -58421"/>
                <a:gd name="adj2" fmla="val 3224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分针走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小格是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分。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30" name="Picture 2" descr="D:\我的文档-桌面-收藏夹\桌面\17.jpg"/>
            <p:cNvPicPr/>
            <p:nvPr/>
          </p:nvPicPr>
          <p:blipFill>
            <a:blip r:embed="rId11"/>
            <a:stretch/>
          </p:blipFill>
          <p:spPr>
            <a:xfrm>
              <a:off x="1989000" y="5202360"/>
              <a:ext cx="724680" cy="868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1" name="TextBox 9"/>
          <p:cNvSpPr/>
          <p:nvPr/>
        </p:nvSpPr>
        <p:spPr>
          <a:xfrm>
            <a:off x="923760" y="117360"/>
            <a:ext cx="619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Calibri"/>
                <a:ea typeface="宋体"/>
              </a:rPr>
              <a:t>二、自主尝试，分析问题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Group 27"/>
          <p:cNvGrpSpPr/>
          <p:nvPr/>
        </p:nvGrpSpPr>
        <p:grpSpPr>
          <a:xfrm>
            <a:off x="1930320" y="1500120"/>
            <a:ext cx="4556160" cy="3581640"/>
            <a:chOff x="1930320" y="1500120"/>
            <a:chExt cx="4556160" cy="3581640"/>
          </a:xfrm>
        </p:grpSpPr>
        <p:pic>
          <p:nvPicPr>
            <p:cNvPr id="1033" name="Picture 26" descr="未标题-4"/>
            <p:cNvPicPr/>
            <p:nvPr/>
          </p:nvPicPr>
          <p:blipFill>
            <a:blip r:embed="rId1"/>
            <a:stretch/>
          </p:blipFill>
          <p:spPr>
            <a:xfrm>
              <a:off x="1930320" y="1500120"/>
              <a:ext cx="4556160" cy="358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Picture 25" descr="7"/>
            <p:cNvPicPr/>
            <p:nvPr/>
          </p:nvPicPr>
          <p:blipFill>
            <a:blip r:embed="rId2"/>
            <a:stretch/>
          </p:blipFill>
          <p:spPr>
            <a:xfrm>
              <a:off x="2687400" y="2051280"/>
              <a:ext cx="2924640" cy="254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5" name="Text Box 15"/>
          <p:cNvSpPr/>
          <p:nvPr/>
        </p:nvSpPr>
        <p:spPr>
          <a:xfrm>
            <a:off x="5373720" y="233208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Text Box 16"/>
          <p:cNvSpPr/>
          <p:nvPr/>
        </p:nvSpPr>
        <p:spPr>
          <a:xfrm>
            <a:off x="5389560" y="367200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Text Box 17"/>
          <p:cNvSpPr/>
          <p:nvPr/>
        </p:nvSpPr>
        <p:spPr>
          <a:xfrm>
            <a:off x="4783320" y="428940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Text Box 18"/>
          <p:cNvSpPr/>
          <p:nvPr/>
        </p:nvSpPr>
        <p:spPr>
          <a:xfrm>
            <a:off x="3967200" y="448776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Text Box 19"/>
          <p:cNvSpPr/>
          <p:nvPr/>
        </p:nvSpPr>
        <p:spPr>
          <a:xfrm>
            <a:off x="2948040" y="427824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Text Box 20"/>
          <p:cNvSpPr/>
          <p:nvPr/>
        </p:nvSpPr>
        <p:spPr>
          <a:xfrm>
            <a:off x="2371680" y="368784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Text Box 21"/>
          <p:cNvSpPr/>
          <p:nvPr/>
        </p:nvSpPr>
        <p:spPr>
          <a:xfrm>
            <a:off x="2165400" y="302112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Text Box 22"/>
          <p:cNvSpPr/>
          <p:nvPr/>
        </p:nvSpPr>
        <p:spPr>
          <a:xfrm>
            <a:off x="2381400" y="232560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Text Box 23"/>
          <p:cNvSpPr/>
          <p:nvPr/>
        </p:nvSpPr>
        <p:spPr>
          <a:xfrm>
            <a:off x="2943360" y="173520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Text Box 24"/>
          <p:cNvSpPr/>
          <p:nvPr/>
        </p:nvSpPr>
        <p:spPr>
          <a:xfrm>
            <a:off x="3962520" y="150660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组合 2"/>
          <p:cNvGrpSpPr/>
          <p:nvPr/>
        </p:nvGrpSpPr>
        <p:grpSpPr>
          <a:xfrm>
            <a:off x="-23760" y="46080"/>
            <a:ext cx="3479760" cy="525600"/>
            <a:chOff x="-23760" y="46080"/>
            <a:chExt cx="3479760" cy="525600"/>
          </a:xfrm>
        </p:grpSpPr>
        <p:pic>
          <p:nvPicPr>
            <p:cNvPr id="1046" name="圆角矩形 47" descr=""/>
            <p:cNvPicPr/>
            <p:nvPr/>
          </p:nvPicPr>
          <p:blipFill>
            <a:blip r:embed="rId3"/>
            <a:stretch/>
          </p:blipFill>
          <p:spPr>
            <a:xfrm>
              <a:off x="139680" y="46080"/>
              <a:ext cx="331632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47" name="组合 4"/>
            <p:cNvGrpSpPr/>
            <p:nvPr/>
          </p:nvGrpSpPr>
          <p:grpSpPr>
            <a:xfrm>
              <a:off x="-23760" y="141120"/>
              <a:ext cx="461880" cy="273960"/>
              <a:chOff x="-23760" y="141120"/>
              <a:chExt cx="461880" cy="273960"/>
            </a:xfrm>
          </p:grpSpPr>
          <p:sp>
            <p:nvSpPr>
              <p:cNvPr id="1048" name="椭圆 52"/>
              <p:cNvSpPr/>
              <p:nvPr/>
            </p:nvSpPr>
            <p:spPr>
              <a:xfrm rot="16200000">
                <a:off x="225000" y="303840"/>
                <a:ext cx="100080" cy="122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49" name="椭圆 57" descr=""/>
              <p:cNvPicPr/>
              <p:nvPr/>
            </p:nvPicPr>
            <p:blipFill>
              <a:blip r:embed="rId4"/>
              <a:stretch/>
            </p:blipFill>
            <p:spPr>
              <a:xfrm>
                <a:off x="221400" y="261360"/>
                <a:ext cx="216720" cy="10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0" name="椭圆 58"/>
              <p:cNvSpPr/>
              <p:nvPr/>
            </p:nvSpPr>
            <p:spPr>
              <a:xfrm rot="16200000">
                <a:off x="225000" y="175320"/>
                <a:ext cx="100080" cy="122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1" name="椭圆 61" descr=""/>
              <p:cNvPicPr/>
              <p:nvPr/>
            </p:nvPicPr>
            <p:blipFill>
              <a:blip r:embed="rId5"/>
              <a:stretch/>
            </p:blipFill>
            <p:spPr>
              <a:xfrm>
                <a:off x="221400" y="154800"/>
                <a:ext cx="216720" cy="10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2" name="圆角矩形 62" descr=""/>
              <p:cNvPicPr/>
              <p:nvPr/>
            </p:nvPicPr>
            <p:blipFill>
              <a:blip r:embed="rId6"/>
              <a:stretch/>
            </p:blipFill>
            <p:spPr>
              <a:xfrm>
                <a:off x="-23760" y="276480"/>
                <a:ext cx="387360" cy="9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3" name="圆角矩形 66" descr=""/>
              <p:cNvPicPr/>
              <p:nvPr/>
            </p:nvPicPr>
            <p:blipFill>
              <a:blip r:embed="rId7"/>
              <a:stretch/>
            </p:blipFill>
            <p:spPr>
              <a:xfrm>
                <a:off x="-23760" y="249840"/>
                <a:ext cx="387360" cy="9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4" name="圆角矩形 67" descr=""/>
              <p:cNvPicPr/>
              <p:nvPr/>
            </p:nvPicPr>
            <p:blipFill>
              <a:blip r:embed="rId8"/>
              <a:stretch/>
            </p:blipFill>
            <p:spPr>
              <a:xfrm>
                <a:off x="-23760" y="167760"/>
                <a:ext cx="387360" cy="9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5" name="圆角矩形 70" descr=""/>
              <p:cNvPicPr/>
              <p:nvPr/>
            </p:nvPicPr>
            <p:blipFill>
              <a:blip r:embed="rId9"/>
              <a:stretch/>
            </p:blipFill>
            <p:spPr>
              <a:xfrm>
                <a:off x="-23760" y="141120"/>
                <a:ext cx="387360" cy="94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6" name="Picture 2" descr="D:\我的文档-桌面-收藏夹\桌面\1.tif"/>
          <p:cNvPicPr/>
          <p:nvPr/>
        </p:nvPicPr>
        <p:blipFill>
          <a:blip r:embed="rId1"/>
          <a:stretch/>
        </p:blipFill>
        <p:spPr>
          <a:xfrm>
            <a:off x="714240" y="642960"/>
            <a:ext cx="7512120" cy="2862360"/>
          </a:xfrm>
          <a:prstGeom prst="rect">
            <a:avLst/>
          </a:prstGeom>
          <a:ln w="0">
            <a:noFill/>
          </a:ln>
        </p:spPr>
      </p:pic>
      <p:sp>
        <p:nvSpPr>
          <p:cNvPr id="1057" name="TextBox 51"/>
          <p:cNvSpPr/>
          <p:nvPr/>
        </p:nvSpPr>
        <p:spPr>
          <a:xfrm>
            <a:off x="3357720" y="5357880"/>
            <a:ext cx="1643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时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=60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8" name="组合 10"/>
          <p:cNvGrpSpPr/>
          <p:nvPr/>
        </p:nvGrpSpPr>
        <p:grpSpPr>
          <a:xfrm>
            <a:off x="1571760" y="4000680"/>
            <a:ext cx="4721040" cy="868320"/>
            <a:chOff x="1571760" y="4000680"/>
            <a:chExt cx="4721040" cy="868320"/>
          </a:xfrm>
        </p:grpSpPr>
        <p:sp>
          <p:nvSpPr>
            <p:cNvPr id="1059" name="AutoShape 27"/>
            <p:cNvSpPr/>
            <p:nvPr/>
          </p:nvSpPr>
          <p:spPr>
            <a:xfrm>
              <a:off x="2643120" y="4057560"/>
              <a:ext cx="3649680" cy="739800"/>
            </a:xfrm>
            <a:prstGeom prst="wedgeRoundRectCallout">
              <a:avLst>
                <a:gd name="adj1" fmla="val -58421"/>
                <a:gd name="adj2" fmla="val 3224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30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分也可以说成半小时。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0" name="Picture 2" descr="D:\我的文档-桌面-收藏夹\桌面\17.jpg"/>
            <p:cNvPicPr/>
            <p:nvPr/>
          </p:nvPicPr>
          <p:blipFill>
            <a:blip r:embed="rId2"/>
            <a:stretch/>
          </p:blipFill>
          <p:spPr>
            <a:xfrm>
              <a:off x="1571760" y="4000680"/>
              <a:ext cx="724680" cy="868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1" name="组合 2"/>
          <p:cNvGrpSpPr/>
          <p:nvPr/>
        </p:nvGrpSpPr>
        <p:grpSpPr>
          <a:xfrm>
            <a:off x="-23760" y="46080"/>
            <a:ext cx="3479760" cy="525600"/>
            <a:chOff x="-23760" y="46080"/>
            <a:chExt cx="3479760" cy="525600"/>
          </a:xfrm>
        </p:grpSpPr>
        <p:pic>
          <p:nvPicPr>
            <p:cNvPr id="1062" name="圆角矩形 47" descr=""/>
            <p:cNvPicPr/>
            <p:nvPr/>
          </p:nvPicPr>
          <p:blipFill>
            <a:blip r:embed="rId3"/>
            <a:stretch/>
          </p:blipFill>
          <p:spPr>
            <a:xfrm>
              <a:off x="139680" y="46080"/>
              <a:ext cx="331632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63" name="组合 4"/>
            <p:cNvGrpSpPr/>
            <p:nvPr/>
          </p:nvGrpSpPr>
          <p:grpSpPr>
            <a:xfrm>
              <a:off x="-23760" y="141120"/>
              <a:ext cx="461880" cy="273960"/>
              <a:chOff x="-23760" y="141120"/>
              <a:chExt cx="461880" cy="273960"/>
            </a:xfrm>
          </p:grpSpPr>
          <p:sp>
            <p:nvSpPr>
              <p:cNvPr id="1064" name="椭圆 52"/>
              <p:cNvSpPr/>
              <p:nvPr/>
            </p:nvSpPr>
            <p:spPr>
              <a:xfrm rot="16200000">
                <a:off x="225000" y="303840"/>
                <a:ext cx="100080" cy="122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5" name="椭圆 57" descr=""/>
              <p:cNvPicPr/>
              <p:nvPr/>
            </p:nvPicPr>
            <p:blipFill>
              <a:blip r:embed="rId4"/>
              <a:stretch/>
            </p:blipFill>
            <p:spPr>
              <a:xfrm>
                <a:off x="221400" y="261360"/>
                <a:ext cx="216720" cy="10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6" name="椭圆 58"/>
              <p:cNvSpPr/>
              <p:nvPr/>
            </p:nvSpPr>
            <p:spPr>
              <a:xfrm rot="16200000">
                <a:off x="225000" y="175320"/>
                <a:ext cx="100080" cy="122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7" name="椭圆 61" descr=""/>
              <p:cNvPicPr/>
              <p:nvPr/>
            </p:nvPicPr>
            <p:blipFill>
              <a:blip r:embed="rId5"/>
              <a:stretch/>
            </p:blipFill>
            <p:spPr>
              <a:xfrm>
                <a:off x="221400" y="154800"/>
                <a:ext cx="216720" cy="10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8" name="圆角矩形 62" descr=""/>
              <p:cNvPicPr/>
              <p:nvPr/>
            </p:nvPicPr>
            <p:blipFill>
              <a:blip r:embed="rId6"/>
              <a:stretch/>
            </p:blipFill>
            <p:spPr>
              <a:xfrm>
                <a:off x="-23760" y="276480"/>
                <a:ext cx="387360" cy="9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9" name="圆角矩形 66" descr=""/>
              <p:cNvPicPr/>
              <p:nvPr/>
            </p:nvPicPr>
            <p:blipFill>
              <a:blip r:embed="rId7"/>
              <a:stretch/>
            </p:blipFill>
            <p:spPr>
              <a:xfrm>
                <a:off x="-23760" y="249840"/>
                <a:ext cx="387360" cy="9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0" name="圆角矩形 67" descr=""/>
              <p:cNvPicPr/>
              <p:nvPr/>
            </p:nvPicPr>
            <p:blipFill>
              <a:blip r:embed="rId8"/>
              <a:stretch/>
            </p:blipFill>
            <p:spPr>
              <a:xfrm>
                <a:off x="-23760" y="167760"/>
                <a:ext cx="387360" cy="9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1" name="圆角矩形 70" descr=""/>
              <p:cNvPicPr/>
              <p:nvPr/>
            </p:nvPicPr>
            <p:blipFill>
              <a:blip r:embed="rId9"/>
              <a:stretch/>
            </p:blipFill>
            <p:spPr>
              <a:xfrm>
                <a:off x="-23760" y="141120"/>
                <a:ext cx="387360" cy="94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" dur="20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9d8ec"/>
                                      </p:to>
                                    </p:animClr>
                                    <p:set>
                                      <p:cBhvr>
                                        <p:cTn id="71" dur="20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矩形 1"/>
          <p:cNvSpPr/>
          <p:nvPr/>
        </p:nvSpPr>
        <p:spPr>
          <a:xfrm>
            <a:off x="787320" y="544680"/>
            <a:ext cx="228600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从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开始数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3" name="Picture 4" descr="D:\我的文档-桌面-收藏夹\桌面\1.tif"/>
          <p:cNvPicPr/>
          <p:nvPr/>
        </p:nvPicPr>
        <p:blipFill>
          <a:blip r:embed="rId1"/>
          <a:stretch/>
        </p:blipFill>
        <p:spPr>
          <a:xfrm>
            <a:off x="785880" y="1214280"/>
            <a:ext cx="8259840" cy="3429000"/>
          </a:xfrm>
          <a:prstGeom prst="rect">
            <a:avLst/>
          </a:prstGeom>
          <a:ln w="0">
            <a:noFill/>
          </a:ln>
        </p:spPr>
      </p:pic>
      <p:grpSp>
        <p:nvGrpSpPr>
          <p:cNvPr id="1074" name="组合 10"/>
          <p:cNvGrpSpPr/>
          <p:nvPr/>
        </p:nvGrpSpPr>
        <p:grpSpPr>
          <a:xfrm>
            <a:off x="1571760" y="5118120"/>
            <a:ext cx="5715000" cy="1025640"/>
            <a:chOff x="1571760" y="5118120"/>
            <a:chExt cx="5715000" cy="1025640"/>
          </a:xfrm>
        </p:grpSpPr>
        <p:sp>
          <p:nvSpPr>
            <p:cNvPr id="1075" name="AutoShape 27"/>
            <p:cNvSpPr/>
            <p:nvPr/>
          </p:nvSpPr>
          <p:spPr>
            <a:xfrm>
              <a:off x="2643120" y="5118120"/>
              <a:ext cx="4643640" cy="954360"/>
            </a:xfrm>
            <a:prstGeom prst="wedgeRoundRectCallout">
              <a:avLst>
                <a:gd name="adj1" fmla="val -58421"/>
                <a:gd name="adj2" fmla="val 3224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时针走过数字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4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，分针从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12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起走了多少个小格，就是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4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时多少分。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76" name="Picture 2" descr="D:\我的文档-桌面-收藏夹\桌面\17.jpg"/>
            <p:cNvPicPr/>
            <p:nvPr/>
          </p:nvPicPr>
          <p:blipFill>
            <a:blip r:embed="rId2"/>
            <a:stretch/>
          </p:blipFill>
          <p:spPr>
            <a:xfrm>
              <a:off x="1571760" y="5275440"/>
              <a:ext cx="724680" cy="868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77" name="组合 2"/>
          <p:cNvGrpSpPr/>
          <p:nvPr/>
        </p:nvGrpSpPr>
        <p:grpSpPr>
          <a:xfrm>
            <a:off x="-23760" y="46080"/>
            <a:ext cx="3479760" cy="525600"/>
            <a:chOff x="-23760" y="46080"/>
            <a:chExt cx="3479760" cy="525600"/>
          </a:xfrm>
        </p:grpSpPr>
        <p:pic>
          <p:nvPicPr>
            <p:cNvPr id="1078" name="圆角矩形 47" descr=""/>
            <p:cNvPicPr/>
            <p:nvPr/>
          </p:nvPicPr>
          <p:blipFill>
            <a:blip r:embed="rId3"/>
            <a:stretch/>
          </p:blipFill>
          <p:spPr>
            <a:xfrm>
              <a:off x="139680" y="46080"/>
              <a:ext cx="331632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79" name="组合 4"/>
            <p:cNvGrpSpPr/>
            <p:nvPr/>
          </p:nvGrpSpPr>
          <p:grpSpPr>
            <a:xfrm>
              <a:off x="-23760" y="141120"/>
              <a:ext cx="461880" cy="273960"/>
              <a:chOff x="-23760" y="141120"/>
              <a:chExt cx="461880" cy="273960"/>
            </a:xfrm>
          </p:grpSpPr>
          <p:sp>
            <p:nvSpPr>
              <p:cNvPr id="1080" name="椭圆 52"/>
              <p:cNvSpPr/>
              <p:nvPr/>
            </p:nvSpPr>
            <p:spPr>
              <a:xfrm rot="16200000">
                <a:off x="225000" y="303840"/>
                <a:ext cx="100080" cy="122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1" name="椭圆 57" descr=""/>
              <p:cNvPicPr/>
              <p:nvPr/>
            </p:nvPicPr>
            <p:blipFill>
              <a:blip r:embed="rId4"/>
              <a:stretch/>
            </p:blipFill>
            <p:spPr>
              <a:xfrm>
                <a:off x="221400" y="261360"/>
                <a:ext cx="216720" cy="10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椭圆 58"/>
              <p:cNvSpPr/>
              <p:nvPr/>
            </p:nvSpPr>
            <p:spPr>
              <a:xfrm rot="16200000">
                <a:off x="225000" y="175320"/>
                <a:ext cx="100080" cy="122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3" name="椭圆 61" descr=""/>
              <p:cNvPicPr/>
              <p:nvPr/>
            </p:nvPicPr>
            <p:blipFill>
              <a:blip r:embed="rId5"/>
              <a:stretch/>
            </p:blipFill>
            <p:spPr>
              <a:xfrm>
                <a:off x="221400" y="154800"/>
                <a:ext cx="216720" cy="10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4" name="圆角矩形 62" descr=""/>
              <p:cNvPicPr/>
              <p:nvPr/>
            </p:nvPicPr>
            <p:blipFill>
              <a:blip r:embed="rId6"/>
              <a:stretch/>
            </p:blipFill>
            <p:spPr>
              <a:xfrm>
                <a:off x="-23760" y="276480"/>
                <a:ext cx="387360" cy="9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5" name="圆角矩形 66" descr=""/>
              <p:cNvPicPr/>
              <p:nvPr/>
            </p:nvPicPr>
            <p:blipFill>
              <a:blip r:embed="rId7"/>
              <a:stretch/>
            </p:blipFill>
            <p:spPr>
              <a:xfrm>
                <a:off x="-23760" y="249840"/>
                <a:ext cx="387360" cy="9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6" name="圆角矩形 67" descr=""/>
              <p:cNvPicPr/>
              <p:nvPr/>
            </p:nvPicPr>
            <p:blipFill>
              <a:blip r:embed="rId8"/>
              <a:stretch/>
            </p:blipFill>
            <p:spPr>
              <a:xfrm>
                <a:off x="-23760" y="167760"/>
                <a:ext cx="387360" cy="9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7" name="圆角矩形 70" descr=""/>
              <p:cNvPicPr/>
              <p:nvPr/>
            </p:nvPicPr>
            <p:blipFill>
              <a:blip r:embed="rId9"/>
              <a:stretch/>
            </p:blipFill>
            <p:spPr>
              <a:xfrm>
                <a:off x="-23760" y="141120"/>
                <a:ext cx="387360" cy="94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88" name="八边形 7"/>
          <p:cNvSpPr/>
          <p:nvPr/>
        </p:nvSpPr>
        <p:spPr>
          <a:xfrm>
            <a:off x="314280" y="644400"/>
            <a:ext cx="522360" cy="51768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9" name="组合 2"/>
          <p:cNvGrpSpPr/>
          <p:nvPr/>
        </p:nvGrpSpPr>
        <p:grpSpPr>
          <a:xfrm>
            <a:off x="25560" y="93600"/>
            <a:ext cx="3095640" cy="525600"/>
            <a:chOff x="25560" y="93600"/>
            <a:chExt cx="3095640" cy="525600"/>
          </a:xfrm>
        </p:grpSpPr>
        <p:pic>
          <p:nvPicPr>
            <p:cNvPr id="1090" name="圆角矩形 47" descr=""/>
            <p:cNvPicPr/>
            <p:nvPr/>
          </p:nvPicPr>
          <p:blipFill>
            <a:blip r:embed="rId1"/>
            <a:stretch/>
          </p:blipFill>
          <p:spPr>
            <a:xfrm>
              <a:off x="167760" y="93600"/>
              <a:ext cx="295344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91" name="组合 4"/>
            <p:cNvGrpSpPr/>
            <p:nvPr/>
          </p:nvGrpSpPr>
          <p:grpSpPr>
            <a:xfrm>
              <a:off x="25560" y="188640"/>
              <a:ext cx="409680" cy="273600"/>
              <a:chOff x="25560" y="188640"/>
              <a:chExt cx="409680" cy="273600"/>
            </a:xfrm>
          </p:grpSpPr>
          <p:sp>
            <p:nvSpPr>
              <p:cNvPr id="1092" name="椭圆 52"/>
              <p:cNvSpPr/>
              <p:nvPr/>
            </p:nvSpPr>
            <p:spPr>
              <a:xfrm rot="16200000">
                <a:off x="263880" y="353880"/>
                <a:ext cx="98280" cy="118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3" name="椭圆 57" descr=""/>
              <p:cNvPicPr/>
              <p:nvPr/>
            </p:nvPicPr>
            <p:blipFill>
              <a:blip r:embed="rId2"/>
              <a:stretch/>
            </p:blipFill>
            <p:spPr>
              <a:xfrm>
                <a:off x="226800" y="320760"/>
                <a:ext cx="208440" cy="11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4" name="椭圆 58"/>
              <p:cNvSpPr/>
              <p:nvPr/>
            </p:nvSpPr>
            <p:spPr>
              <a:xfrm rot="16200000">
                <a:off x="263880" y="228240"/>
                <a:ext cx="98280" cy="118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5" name="椭圆 61" descr=""/>
              <p:cNvPicPr/>
              <p:nvPr/>
            </p:nvPicPr>
            <p:blipFill>
              <a:blip r:embed="rId3"/>
              <a:stretch/>
            </p:blipFill>
            <p:spPr>
              <a:xfrm>
                <a:off x="226800" y="203760"/>
                <a:ext cx="208440" cy="11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6" name="圆角矩形 62" descr=""/>
              <p:cNvPicPr/>
              <p:nvPr/>
            </p:nvPicPr>
            <p:blipFill>
              <a:blip r:embed="rId4"/>
              <a:stretch/>
            </p:blipFill>
            <p:spPr>
              <a:xfrm>
                <a:off x="25560" y="337680"/>
                <a:ext cx="336960" cy="10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7" name="圆角矩形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25560" y="308520"/>
                <a:ext cx="336960" cy="10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8" name="圆角矩形 67" descr=""/>
              <p:cNvPicPr/>
              <p:nvPr/>
            </p:nvPicPr>
            <p:blipFill>
              <a:blip r:embed="rId6"/>
              <a:stretch/>
            </p:blipFill>
            <p:spPr>
              <a:xfrm>
                <a:off x="25560" y="217800"/>
                <a:ext cx="336960" cy="10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9" name="圆角矩形 70" descr=""/>
              <p:cNvPicPr/>
              <p:nvPr/>
            </p:nvPicPr>
            <p:blipFill>
              <a:blip r:embed="rId7"/>
              <a:stretch/>
            </p:blipFill>
            <p:spPr>
              <a:xfrm>
                <a:off x="25560" y="188640"/>
                <a:ext cx="336960" cy="1040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100" name="Picture 2" descr="D:\我的文档-桌面-收藏夹\桌面\未标题-2副本.jpg"/>
          <p:cNvPicPr/>
          <p:nvPr/>
        </p:nvPicPr>
        <p:blipFill>
          <a:blip r:embed="rId8"/>
          <a:srcRect l="2631" t="21047" r="7017" b="50020"/>
          <a:stretch/>
        </p:blipFill>
        <p:spPr>
          <a:xfrm>
            <a:off x="1000080" y="1069920"/>
            <a:ext cx="7358040" cy="1571760"/>
          </a:xfrm>
          <a:prstGeom prst="rect">
            <a:avLst/>
          </a:prstGeom>
          <a:ln w="0">
            <a:noFill/>
          </a:ln>
        </p:spPr>
      </p:pic>
      <p:sp>
        <p:nvSpPr>
          <p:cNvPr id="1101" name="Rectangle 64"/>
          <p:cNvSpPr/>
          <p:nvPr/>
        </p:nvSpPr>
        <p:spPr>
          <a:xfrm>
            <a:off x="357120" y="92160"/>
            <a:ext cx="28828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三、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2" name="Picture 2" descr="D:\我的文档-桌面-收藏夹\桌面\未标题-2副本.jpg"/>
          <p:cNvPicPr/>
          <p:nvPr/>
        </p:nvPicPr>
        <p:blipFill>
          <a:blip r:embed="rId9"/>
          <a:srcRect l="4386" t="55249" r="9652" b="11869"/>
          <a:stretch/>
        </p:blipFill>
        <p:spPr>
          <a:xfrm>
            <a:off x="1143000" y="3498840"/>
            <a:ext cx="7000920" cy="1785960"/>
          </a:xfrm>
          <a:prstGeom prst="rect">
            <a:avLst/>
          </a:prstGeom>
          <a:ln w="0">
            <a:noFill/>
          </a:ln>
        </p:spPr>
      </p:pic>
      <p:sp>
        <p:nvSpPr>
          <p:cNvPr id="1103" name="矩形 5"/>
          <p:cNvSpPr/>
          <p:nvPr/>
        </p:nvSpPr>
        <p:spPr>
          <a:xfrm>
            <a:off x="1428840" y="2570040"/>
            <a:ext cx="92844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7:1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直接连接符 7"/>
          <p:cNvSpPr/>
          <p:nvPr/>
        </p:nvSpPr>
        <p:spPr>
          <a:xfrm>
            <a:off x="3143160" y="3213000"/>
            <a:ext cx="1214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直接连接符 10"/>
          <p:cNvSpPr/>
          <p:nvPr/>
        </p:nvSpPr>
        <p:spPr>
          <a:xfrm>
            <a:off x="4929120" y="3213000"/>
            <a:ext cx="1214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直接连接符 11"/>
          <p:cNvSpPr/>
          <p:nvPr/>
        </p:nvSpPr>
        <p:spPr>
          <a:xfrm>
            <a:off x="6715080" y="3213000"/>
            <a:ext cx="1214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直接连接符 12"/>
          <p:cNvSpPr/>
          <p:nvPr/>
        </p:nvSpPr>
        <p:spPr>
          <a:xfrm>
            <a:off x="3143160" y="5784840"/>
            <a:ext cx="1214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直接连接符 13"/>
          <p:cNvSpPr/>
          <p:nvPr/>
        </p:nvSpPr>
        <p:spPr>
          <a:xfrm>
            <a:off x="4857840" y="5784840"/>
            <a:ext cx="1214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直接连接符 14"/>
          <p:cNvSpPr/>
          <p:nvPr/>
        </p:nvSpPr>
        <p:spPr>
          <a:xfrm>
            <a:off x="6715080" y="5784840"/>
            <a:ext cx="1214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直接连接符 15"/>
          <p:cNvSpPr/>
          <p:nvPr/>
        </p:nvSpPr>
        <p:spPr>
          <a:xfrm>
            <a:off x="1357200" y="5784840"/>
            <a:ext cx="1214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矩形 16"/>
          <p:cNvSpPr/>
          <p:nvPr/>
        </p:nvSpPr>
        <p:spPr>
          <a:xfrm>
            <a:off x="3214800" y="2570040"/>
            <a:ext cx="92844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7:3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矩形 17"/>
          <p:cNvSpPr/>
          <p:nvPr/>
        </p:nvSpPr>
        <p:spPr>
          <a:xfrm>
            <a:off x="5072040" y="2570040"/>
            <a:ext cx="92880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7:4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矩形 18"/>
          <p:cNvSpPr/>
          <p:nvPr/>
        </p:nvSpPr>
        <p:spPr>
          <a:xfrm>
            <a:off x="6786720" y="2570040"/>
            <a:ext cx="92844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8:0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矩形 19"/>
          <p:cNvSpPr/>
          <p:nvPr/>
        </p:nvSpPr>
        <p:spPr>
          <a:xfrm>
            <a:off x="3214800" y="5133960"/>
            <a:ext cx="114300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0:4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矩形 20"/>
          <p:cNvSpPr/>
          <p:nvPr/>
        </p:nvSpPr>
        <p:spPr>
          <a:xfrm>
            <a:off x="5143680" y="5133960"/>
            <a:ext cx="92844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9:5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矩形 21"/>
          <p:cNvSpPr/>
          <p:nvPr/>
        </p:nvSpPr>
        <p:spPr>
          <a:xfrm>
            <a:off x="6858000" y="5133960"/>
            <a:ext cx="92880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6:0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矩形 22"/>
          <p:cNvSpPr/>
          <p:nvPr/>
        </p:nvSpPr>
        <p:spPr>
          <a:xfrm>
            <a:off x="1500120" y="5133960"/>
            <a:ext cx="92880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:2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8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19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20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121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22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3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2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29" name="Rectangle 64"/>
          <p:cNvSpPr/>
          <p:nvPr/>
        </p:nvSpPr>
        <p:spPr>
          <a:xfrm>
            <a:off x="365040" y="76320"/>
            <a:ext cx="29466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四、课堂小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TextBox 32"/>
          <p:cNvSpPr/>
          <p:nvPr/>
        </p:nvSpPr>
        <p:spPr>
          <a:xfrm>
            <a:off x="325440" y="949320"/>
            <a:ext cx="84488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钟面上分针走一圈是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0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分，时针走一大格是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时，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时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=60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    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分针指向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时，时针指向就是几时，分针从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开始，走了几格就是几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"/>
          <p:cNvSpPr txBox="1"/>
          <p:nvPr/>
        </p:nvSpPr>
        <p:spPr>
          <a:xfrm>
            <a:off x="457200" y="771480"/>
            <a:ext cx="8229600" cy="50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填空。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钟面上有（  ）个数字。时针从一个数走到下一个数的时间是（          ），分针走一小格的时间是（          ），分针走一大格的时间是（            ）。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时针走一大格，分针正好走（   ）小格，也就是（   ）分，所以说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时＝（   ）分。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时针从“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2”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走到“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4”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走了（   ）小时。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分针从“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2”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走到“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4”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走了（    </a:t>
            </a:r>
            <a:r>
              <a:rPr b="0" lang="zh-CN" sz="29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）分钟。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2" name="组合 2"/>
          <p:cNvGrpSpPr/>
          <p:nvPr/>
        </p:nvGrpSpPr>
        <p:grpSpPr>
          <a:xfrm>
            <a:off x="-23760" y="46080"/>
            <a:ext cx="3112920" cy="525600"/>
            <a:chOff x="-23760" y="46080"/>
            <a:chExt cx="3112920" cy="525600"/>
          </a:xfrm>
        </p:grpSpPr>
        <p:pic>
          <p:nvPicPr>
            <p:cNvPr id="1133" name="圆角矩形 47" descr=""/>
            <p:cNvPicPr/>
            <p:nvPr/>
          </p:nvPicPr>
          <p:blipFill>
            <a:blip r:embed="rId1"/>
            <a:stretch/>
          </p:blipFill>
          <p:spPr>
            <a:xfrm>
              <a:off x="139680" y="46080"/>
              <a:ext cx="294948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34" name="组合 4"/>
            <p:cNvGrpSpPr/>
            <p:nvPr/>
          </p:nvGrpSpPr>
          <p:grpSpPr>
            <a:xfrm>
              <a:off x="-23760" y="141120"/>
              <a:ext cx="460800" cy="273960"/>
              <a:chOff x="-23760" y="141120"/>
              <a:chExt cx="460800" cy="273960"/>
            </a:xfrm>
          </p:grpSpPr>
          <p:sp>
            <p:nvSpPr>
              <p:cNvPr id="1135" name="椭圆 52"/>
              <p:cNvSpPr/>
              <p:nvPr/>
            </p:nvSpPr>
            <p:spPr>
              <a:xfrm rot="16200000">
                <a:off x="224280" y="303840"/>
                <a:ext cx="100080" cy="122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6" name="椭圆 57" descr=""/>
              <p:cNvPicPr/>
              <p:nvPr/>
            </p:nvPicPr>
            <p:blipFill>
              <a:blip r:embed="rId2"/>
              <a:stretch/>
            </p:blipFill>
            <p:spPr>
              <a:xfrm>
                <a:off x="221040" y="261000"/>
                <a:ext cx="216000" cy="10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7" name="椭圆 58"/>
              <p:cNvSpPr/>
              <p:nvPr/>
            </p:nvSpPr>
            <p:spPr>
              <a:xfrm rot="16200000">
                <a:off x="224280" y="175320"/>
                <a:ext cx="100080" cy="122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8" name="椭圆 61" descr=""/>
              <p:cNvPicPr/>
              <p:nvPr/>
            </p:nvPicPr>
            <p:blipFill>
              <a:blip r:embed="rId3"/>
              <a:stretch/>
            </p:blipFill>
            <p:spPr>
              <a:xfrm>
                <a:off x="221040" y="154800"/>
                <a:ext cx="216000" cy="10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9" name="圆角矩形 6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3760" y="276480"/>
                <a:ext cx="386640" cy="9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0" name="圆角矩形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-23760" y="249840"/>
                <a:ext cx="386640" cy="9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1" name="圆角矩形 67" descr=""/>
              <p:cNvPicPr/>
              <p:nvPr/>
            </p:nvPicPr>
            <p:blipFill>
              <a:blip r:embed="rId6"/>
              <a:stretch/>
            </p:blipFill>
            <p:spPr>
              <a:xfrm>
                <a:off x="-23760" y="167760"/>
                <a:ext cx="386640" cy="9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2" name="圆角矩形 70" descr=""/>
              <p:cNvPicPr/>
              <p:nvPr/>
            </p:nvPicPr>
            <p:blipFill>
              <a:blip r:embed="rId7"/>
              <a:stretch/>
            </p:blipFill>
            <p:spPr>
              <a:xfrm>
                <a:off x="-23760" y="141120"/>
                <a:ext cx="386640" cy="94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43" name="文本框 6"/>
          <p:cNvSpPr/>
          <p:nvPr/>
        </p:nvSpPr>
        <p:spPr>
          <a:xfrm>
            <a:off x="2536920" y="1581120"/>
            <a:ext cx="6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文本框 2"/>
          <p:cNvSpPr/>
          <p:nvPr/>
        </p:nvSpPr>
        <p:spPr>
          <a:xfrm>
            <a:off x="3068640" y="2184480"/>
            <a:ext cx="113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小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文本框 4"/>
          <p:cNvSpPr/>
          <p:nvPr/>
        </p:nvSpPr>
        <p:spPr>
          <a:xfrm>
            <a:off x="843120" y="283536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分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文本框 5"/>
          <p:cNvSpPr/>
          <p:nvPr/>
        </p:nvSpPr>
        <p:spPr>
          <a:xfrm>
            <a:off x="6559560" y="2835360"/>
            <a:ext cx="113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5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分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文本框 7"/>
          <p:cNvSpPr/>
          <p:nvPr/>
        </p:nvSpPr>
        <p:spPr>
          <a:xfrm>
            <a:off x="5513400" y="346392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文本框 8"/>
          <p:cNvSpPr/>
          <p:nvPr/>
        </p:nvSpPr>
        <p:spPr>
          <a:xfrm>
            <a:off x="843120" y="405936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文本框 9"/>
          <p:cNvSpPr/>
          <p:nvPr/>
        </p:nvSpPr>
        <p:spPr>
          <a:xfrm>
            <a:off x="4584600" y="4059360"/>
            <a:ext cx="113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文本框 10"/>
          <p:cNvSpPr/>
          <p:nvPr/>
        </p:nvSpPr>
        <p:spPr>
          <a:xfrm>
            <a:off x="5589720" y="465768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文本框 11"/>
          <p:cNvSpPr/>
          <p:nvPr/>
        </p:nvSpPr>
        <p:spPr>
          <a:xfrm>
            <a:off x="5362560" y="528012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5T05:27:00Z</dcterms:created>
  <dc:creator/>
  <dc:description/>
  <dc:language>en-US</dc:language>
  <cp:lastModifiedBy>万润仪器贸易公司</cp:lastModifiedBy>
  <dcterms:modified xsi:type="dcterms:W3CDTF">2020-08-21T00:44:57Z</dcterms:modified>
  <cp:revision>1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